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CDEA-F07A-4A5E-91B9-EBA7C458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9C5F-8A5A-415B-AD26-8781CFEA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9B62-4D81-4945-B511-6A1D51D1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C26C-4A34-4D76-809A-A88417D3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0455-4E12-4B5A-A89C-7D3F4926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6CFF-9212-4E2E-8933-2494531A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FB30-E71F-457B-9B08-33A90DF2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BF01-0A97-448E-BD38-E4333211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DD9F-1458-4604-99DC-AEC8FB14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B9CB-091C-44BB-9DE9-75B249B5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15B8-9B36-4D65-874B-A4DBFB1A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5864-F1F6-48FA-8F74-17083FB4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C545-8AA6-4116-BA34-BCD9B0369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kaz o činnosti naší firmy za rok 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ýkaz o mojí firmě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48C9-60D1-495B-B8BA-704E178B78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ehled obratu a zisk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959120" y="1719360"/>
          <a:ext cx="5224320" cy="4286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59120" y="1719360"/>
                    <a:ext cx="522432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ýkaz o mojí firmě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CB1B-BC03-4676-A539-07AD6F7A97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ehled obratu a zis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187280" y="1628640"/>
          <a:ext cx="6769440" cy="4438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1628640"/>
                    <a:ext cx="6769440" cy="44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ýkaz o mojí firm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40C5-4AF6-47C2-85FB-42420B81AB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znamné události roku 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blémy s výrobou na jař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kordní nárůst v červen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ýkaz o mojí firm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17F0-924F-4069-88FD-8BD74908AC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21:01:23Z</dcterms:created>
  <dc:creator>Jiri Beran</dc:creator>
  <dc:description/>
  <dc:language>en-US</dc:language>
  <cp:lastModifiedBy>Jiri Beran</cp:lastModifiedBy>
  <dcterms:modified xsi:type="dcterms:W3CDTF">2007-02-22T21:21:34Z</dcterms:modified>
  <cp:revision>3</cp:revision>
  <dc:subject/>
  <dc:title>Výkaz o činnosti naší firmy za rok 2006</dc:title>
</cp:coreProperties>
</file>